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2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2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3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7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7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4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5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6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197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9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200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242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43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246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28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9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5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3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3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80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81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8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Screen Shot 2014-08-16 at 4.57.36 pm.png"/>
          <p:cNvPicPr/>
          <p:nvPr/>
        </p:nvPicPr>
        <p:blipFill>
          <a:blip r:embed="rId3"/>
          <a:stretch/>
        </p:blipFill>
        <p:spPr>
          <a:xfrm>
            <a:off x="453960" y="196920"/>
            <a:ext cx="12169800" cy="921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30320" y="555120"/>
            <a:ext cx="731340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The Pledge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25600" y="1275840"/>
            <a:ext cx="11880720" cy="813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674b23"/>
                </a:solidFill>
                <a:latin typeface="Arial"/>
                <a:ea typeface="Arial"/>
              </a:rPr>
              <a:t>I promise…</a:t>
            </a:r>
            <a:endParaRPr b="0" lang="en-US" sz="54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onour God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use kind words 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treat all people fairly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not to make fun of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elp my friend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include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show the G.R.E.A. T value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    </a:t>
            </a: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n all I do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lasshouse Country Christian College</cp:lastModifiedBy>
  <dcterms:modified xsi:type="dcterms:W3CDTF">2014-09-15T00:36:52Z</dcterms:modified>
  <cp:revision>77</cp:revision>
  <dc:subject/>
  <dc:title>Ideas</dc:title>
</cp:coreProperties>
</file>